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7ECB-29E1-4EA0-91B0-9CB6D03D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0F75-115A-4CE6-8EE9-F213148F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2601-BD97-416D-9DAE-4D44F1CB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3040" y="160020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4800" y="160020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3040" y="39643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4800" y="39643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4113-001B-4D58-80D6-C4E55F6F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C5B3-8A08-4823-8FA5-38DF4949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FDF9-6E6A-41D4-BD70-C59EE6D7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D94E-6B2D-4F33-93A2-EC9AF8F9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FC06-7862-4F3A-912B-8A92E71C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0920" y="274320"/>
            <a:ext cx="864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F95D-F21C-445F-87F6-7C8F0E54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A7C8-2A63-4CDD-8302-E2D3D2C5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1EDD-F0A2-46EB-A8B4-D742059D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DA61-1BAA-497D-A41B-1DDB04D5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1FA7-481F-4843-BC2A-8C4C97EBF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3640" y="630864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December 1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804000" y="6103800"/>
            <a:ext cx="2340000" cy="75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rac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viding Fra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lena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xplain to me in your own words, what you do to divide two fra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oes this technique work for division of whole number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g. 8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÷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the end of the les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of you MUST be able to divide two simple fr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f you SHOULD be able to give the answer in the simplest fo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of your COULD be able to correctly answer questions involving mixed numbers and decim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r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t the following decimals to frac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answers in simplest fo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.2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.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.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.3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memb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answers must be given as fractions in the simplest form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help each other out and save my voice! That doesn’t mean let the noise get out of han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can still write a detention sli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et’s divide some fractions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valuate ½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÷ 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1: Find the reciprocal of the dividing fractio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eciprocal is the one after the ÷ sig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 the reciprocal of ¾ is 4/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2: Multiply instead of divi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2205000"/>
            <a:ext cx="647640" cy="576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88000" y="2349360"/>
            <a:ext cx="2376360" cy="358920"/>
          </a:xfrm>
          <a:custGeom>
            <a:avLst/>
            <a:gdLst/>
            <a:ahLst/>
            <a:rect l="l" t="t" r="r" b="b"/>
            <a:pathLst>
              <a:path w="1951" h="226">
                <a:moveTo>
                  <a:pt x="1951" y="226"/>
                </a:moveTo>
                <a:cubicBezTo>
                  <a:pt x="1917" y="154"/>
                  <a:pt x="1883" y="83"/>
                  <a:pt x="1770" y="45"/>
                </a:cubicBezTo>
                <a:cubicBezTo>
                  <a:pt x="1657" y="7"/>
                  <a:pt x="1566" y="0"/>
                  <a:pt x="1271" y="0"/>
                </a:cubicBezTo>
                <a:cubicBezTo>
                  <a:pt x="976" y="0"/>
                  <a:pt x="310" y="121"/>
                  <a:pt x="0" y="45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325440" y="2276640"/>
            <a:ext cx="56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3080" y="2268360"/>
            <a:ext cx="56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60360" y="263700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48000" y="2637000"/>
            <a:ext cx="46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3080" y="2276640"/>
            <a:ext cx="56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60360" y="2637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276640"/>
            <a:ext cx="136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8x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9x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06920" y="2637000"/>
            <a:ext cx="46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83280" y="2276640"/>
            <a:ext cx="10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4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34200" y="2637000"/>
            <a:ext cx="46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10560" y="2276640"/>
            <a:ext cx="10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71320" y="37893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÷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71320" y="21337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÷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other look…in Englis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valuate ½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÷ 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1: Turn the second fraction upside dow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¾ becomes 4/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2: Change ÷ to 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½ ÷ ¾ = ½ x 4/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t’s easy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ow you try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7/8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÷ 4/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5/20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÷ 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36/48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÷ 3/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/9 ÷ 5/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/44 ÷ 1/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ten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et’s try combining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0.6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÷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0.45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÷ 5/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0.125 ÷ 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1½ ÷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2¾ ÷ 6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20:36:14Z</dcterms:created>
  <dc:creator>Bruno Reddy</dc:creator>
  <dc:description/>
  <dc:language>en-US</dc:language>
  <cp:lastModifiedBy>Bruno Reddy</cp:lastModifiedBy>
  <dcterms:modified xsi:type="dcterms:W3CDTF">2004-11-30T23:04:05Z</dcterms:modified>
  <cp:revision>6</cp:revision>
  <dc:subject/>
  <dc:title>Fractions</dc:title>
</cp:coreProperties>
</file>